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958-ABED-4275-87C1-9C690C8B1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1F8-A124-4689-9282-DD9035085B8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A2E-0122-4032-821E-49D7DD2E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E3B-285F-4E00-A60F-46A7BB6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647-D6A1-4431-9541-306250D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7E8-8475-4BF6-A656-A1FEF449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AAAC-91A3-4172-9B5B-EF2F9AA1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000A-1AFD-4231-B0A9-29C2470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85E-1AEA-4FF8-BED1-980028D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E560-B94D-4132-8768-E699C34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63A-732D-437F-BFD6-693A18AF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EE8-5ABF-4E0C-A17C-97899F0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2253-F089-4438-8624-FBA66ED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993-F021-41D7-BA30-CB337B2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D72-E2CF-4836-A9FD-3105431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96F-2A19-4220-9930-A70D0E8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8A14-8E11-489D-A9D4-90F0E3D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779E-32B8-4EF4-AC3B-FEF4D8AD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3FDC-F0C6-496E-8CCC-14F30AB8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FBB-2920-423F-A26C-78DF3BF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749-7CAD-486A-97B8-D1F0172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7F7-51B3-4DFF-9590-12C7B86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CE7-98CD-4476-B21D-9DACD9C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74E-7773-43E1-9CBD-A9E213D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CCF-1499-442C-9688-0B447D53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0CD-9EA0-4818-8CE4-0A729BB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F96-DECB-4600-B26E-4CCC146A6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37B8-7E48-4132-9E56-9266C9D8876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371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4"/>
          <p:cNvSpPr/>
          <p:nvPr/>
        </p:nvSpPr>
        <p:spPr>
          <a:xfrm>
            <a:off x="858960" y="13716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362320" y="1371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022280" y="137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Them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723640" y="1371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027560" y="1371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otluc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0" name="MacOS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4300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arol, Mr. and Mrs. Tether, Paul, and Mrs. Peacock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14400" y="2590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are the minor characters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911600" y="316872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ast, present, or futu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913400" y="316872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tim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97560" y="3168720"/>
            <a:ext cx="64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Day, week, month, year, season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913400" y="316872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tim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917000" y="316872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Real or imaginary loc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14120" y="316872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pla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915920" y="3168720"/>
            <a:ext cx="488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nside /outsid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ity, State, Count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pecific room or build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914120" y="316872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pla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004480" y="312408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Usually one charact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918080" y="3168720"/>
            <a:ext cx="510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1950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Rockville, Crain, Chandl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s. Peacock’s hous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289548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etting (time and place)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676520" y="2819520"/>
            <a:ext cx="56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ain __________ the writer conveys to the read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0836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ssag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15200" y="316872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esson about __________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903680" y="316872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if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3048120"/>
            <a:ext cx="60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___________ about people and their action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906560" y="3168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belief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90720" y="2895480"/>
            <a:ext cx="68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Key to unlocking them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Did the __________ change in the stor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909440" y="316872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harac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23120" y="3168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is the main charac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30680" y="297180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NOT __________ directly in the sto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906200" y="316872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state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908720" y="316872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equence of event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90440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plo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915560" y="3168720"/>
            <a:ext cx="498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n this part of the plot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aracters are introduce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etting is describe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910160" y="3168720"/>
            <a:ext cx="38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exposi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75520" y="3124080"/>
            <a:ext cx="69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oint of greatest suspense in the plo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907280" y="316872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limax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26280" y="3200400"/>
            <a:ext cx="71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ouisa’s parents do not recognize h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104840" y="3048120"/>
            <a:ext cx="69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climax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95280" y="297180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One or more characters that interact with the main charact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955160" y="316872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nclusion of the sto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913760" y="31687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resolu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906560" y="316872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ilver and Blu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905480" y="3168720"/>
            <a:ext cx="56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iss Christianson’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favorite colo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68040" y="3168720"/>
            <a:ext cx="31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anksgiv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Valentine’s Da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905480" y="3168720"/>
            <a:ext cx="56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iss Christianson’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favorite holiday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926360" y="3168720"/>
            <a:ext cx="60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ge of becoming a Brewers fa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iss Christians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910520" y="31687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5 years ol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447920" y="32004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eese Ravioli, Meat Sauce &amp; French Bread Slic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914120" y="316872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for lunch toda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50760" y="3200400"/>
            <a:ext cx="68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are the minor characte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93240" y="316872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Hendricks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920600" y="316872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is the principal of SMM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38080" y="2438280"/>
            <a:ext cx="74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is is the author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. She liked to write creepy stories with twist ending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531080" y="2766960"/>
            <a:ext cx="57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Who is Shirley Jackson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62120" y="2895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aracters include people, animals, and __________ creatur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10880" y="31687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are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imaginary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creatur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86400" y="316872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ouisa Te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is the main character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23:34:26Z</dcterms:created>
  <dc:creator>Diana Bassi</dc:creator>
  <dc:description/>
  <dc:language>en-US</dc:language>
  <cp:lastModifiedBy>Michelle Christianson</cp:lastModifiedBy>
  <dcterms:modified xsi:type="dcterms:W3CDTF">2011-09-29T00:34:23Z</dcterms:modified>
  <cp:revision>24</cp:revision>
  <dc:subject/>
  <dc:title>Jeopardy</dc:title>
</cp:coreProperties>
</file>